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05F4-BDB7-419A-A61B-9D36E2695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7D4E-A969-4F54-B330-CFAD45A87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EC86-4D31-48E3-AD46-A003CE092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7021-F15F-4884-879A-9D81B1E5B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B19C-005A-40B6-B9CA-272700CD8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586E-494C-4439-B43A-DF4C2F140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C577-D4A2-4B93-8728-97507AD6C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684B-AE25-4D12-BEE2-17B0EFC38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8E51-FA76-479E-B64B-60220E914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984-E074-44C6-8B51-4B50B957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894-0553-4D04-ADC7-8CDA235E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EFD-AD0C-423C-983B-6CCFAC9A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6DA-8F7B-4C4A-B132-614851FF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9764-1ACB-4404-87FB-CEE8FFF6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46F1-83EA-408C-BD10-20F6042A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BF98-5344-4219-8B11-BD78C7D2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B244-80EB-47B7-8A37-8CCA3226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4717-901A-4CDE-BE4D-58BD1F65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8F15-2C7B-45C5-82C4-7E6C1C11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BA3D-5268-410E-9D7D-F3A4D2D3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DAD-327F-409B-9F6A-67DD3F82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F83E-53FC-4A59-8C89-7B902A07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985D-9BCF-4ACE-A945-B06E971B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87EF-69D3-452B-B1CB-CA146913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0DE5-516B-434C-B377-009FB887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3A7C-4C00-4D35-B349-F89FA1D4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9AA5E-2608-4A96-A8D4-01AC0F44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376D5-A049-4260-B0FC-1CFFB548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D5416-A41B-4C0E-A443-ED1BCA11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4F958-3E31-421A-A4D4-BDFFB2FB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8E8BF-7A97-4455-800F-9B06CED3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E07-ED4C-4F5F-8C00-6B65321A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F5C2E-CC4A-48F1-946B-136ED476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94D5A-A773-41A5-B88C-09CAE2FC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730E3-6FB5-4618-83FD-24226B81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BCD47-67D8-4081-B8BF-FDD0442C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D7EA6-1D27-43F1-8934-45B525AF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EC923-18B6-4E08-91A8-DBCC567F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82F2A-C1A4-40AC-8D45-1F0C4664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F9DB0-2A5B-4C73-A9CD-407DA2D5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DECF9-8B71-4381-9A7C-D41D4748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323E4-F9CF-4052-8349-1827DB2F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23A-7C49-45F6-9741-234C06B7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2495B-D4D9-4118-B732-B6075A69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9BFB4-3226-4C8B-9C7D-FECCB051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61A2D-EF57-4B1C-9552-607E7813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D788-2DED-49F5-9245-DCE2F053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482BD-45D3-47C9-8F11-7DB8FBEF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96C8B-AE7B-49AE-A18D-84792D66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D1ED4-25C4-4484-88A3-7E7D8CE6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625D2-2F0F-4333-8996-A408B43A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FF3AE-3926-4F62-9881-3281F967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A7EE4-88FB-43E7-8107-48F99079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D75-D22E-4571-B961-457F1B86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8F2D0-4C26-4399-9F77-0C607214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43D55-6699-4E61-A0E6-38C42D3D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06A0C-050E-4CB1-9BB0-9F3D5BD3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529F1-F00E-4E27-969A-C0EB2FC6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214A7-EC36-4697-B1EF-A31BE898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2621B-302A-4E53-B4FF-DECA0185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ABDBE-A62E-4935-9BED-BB0E907E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0EE82-CB16-4D29-8BA1-8021FCC6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7DAF4-42CE-4A6D-985E-4A8CB307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CEE3A-C751-4F0C-A5CC-96F6D77F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DB4-25C2-4030-A50C-6C4DA8B0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4D7C5-CF44-4EF7-8EE1-8C9A60EE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1252AC-352E-40FB-A0C7-6BE38B08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C1067-3778-4B97-8232-697DEC22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D4F42-8470-4C7D-A81B-F8DA937E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E258B-41CF-4D7F-B3B0-4AA19A30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656F32-E8A8-44A0-A524-D5B6DA83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295E4-FFA1-4F01-A66D-6A4724FB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5C063-A6CB-4657-A8F9-0814B52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39F0C-A74D-4B86-9AE7-C67A18F1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7F13E-325F-4E33-BD65-083B4B5C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50B-E9F6-4F75-B220-6AE4203B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FCAED-EEF5-4DDB-8A7B-9AF48A8E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AC84DC-6395-40E7-ADCB-00008E4C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838A0-9C92-4765-9B2D-58FF83CE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B5B77-9BFD-43AD-A8B0-3E31A938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D70814-3ECA-4E4D-98DC-5DA8833C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70D9D4-CD0A-43D5-A9F4-C0689A69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2482E-4FEA-41D9-BA90-CBD5B997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0B0BD-6D72-4EFE-BB3D-3BF6C783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6E7AC-D867-4FE8-B27C-A5AA757F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BA923-4525-4A17-BD22-ACD52627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3DA-7D57-4A39-9BCD-075199E7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2FEB3-BF15-46C2-B26D-FF888A52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A4D48-6FED-4B0E-9497-F2D02355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5C0C6-14B1-4FA6-945A-4D756828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9C1B1-2E99-4F9E-A222-01862FC3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EF257-E962-4C75-A20B-4CD68AC4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32F-D5FF-4D5D-9587-B53D84C4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2590-1A54-420B-B384-E7F1067090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04C0-F167-4B2E-88CA-89ABAEA84F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484E-ED24-4A91-917B-5980357DDC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04C4-6A9F-4B12-A6F2-A1D298C9EA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BF74-363A-4A9F-B2B9-5EF98766E7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8C8F-124A-4F96-A960-316B2B8A89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E998-FEE0-4931-976F-4BAEEEC05F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1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UTHOR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Explain who J.D Salinger is(at least 3 facts about him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2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UMMARY &amp; TITLE EXPLANATION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 a brief summary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atcher in the Ry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 the titl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atcher in the Ry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3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M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 the them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atcher in the Ry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4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FIGURATIVE LANGUAG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py a minimum of 3 examples of figurative language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atcher…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explain each of th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member page #s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5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HARACTERIZATION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lyze one of the characters from the sto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cribe them physically and mentally, and write how they affect and/or add meaning to the story or to Holden’s life.  Pick a quote from the story which describes th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forget page number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6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DOG POOP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lyze Holden’s Dog Poop (explain what it is and how he handles it- if he handles i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ick one quote from the story to represent his dog poo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forget page numb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7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YMBOLISM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 what two of the following symbols represent (red hat, Pency Prep, Central Park, the ducks, Allie’s glove, unmade phone calls, movies, other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 THIS IS YOUR INTERPRETATION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LIDE 8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YOUR CHOIC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oose how you would like to end your present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 your heading (name, date, class, et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45:55Z</dcterms:created>
  <dc:creator>nvasquez</dc:creator>
  <dc:description/>
  <dc:language>en-US</dc:language>
  <cp:lastModifiedBy>nvasquez</cp:lastModifiedBy>
  <dcterms:modified xsi:type="dcterms:W3CDTF">2009-10-20T04:54:04Z</dcterms:modified>
  <cp:revision>1</cp:revision>
  <dc:subject/>
  <dc:title>SLIDE 1 Author</dc:title>
</cp:coreProperties>
</file>